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8CE-5A92-4EFD-8680-FD2DE308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594-FD44-44FD-8ABA-D239056C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EB2-0E05-430D-8FC6-D70737A0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9D6-DCEC-4F10-BAF8-8CA50531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E05-F918-45CA-9F81-4B952561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51C-114E-47B6-A81D-8D1A549D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CDF-5048-4EDF-988F-E7C01D3A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DBB-4EAB-48CC-AABE-C9EF8822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82A-4320-44FE-8B9C-238AF74A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5A1-26A2-42CE-AD5D-CA7F16C5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F33-7E7E-41C5-A523-92AEC807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5AB-6CBE-44B3-B72F-85B0C96B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5180-1C45-4B76-8D96-A22D4755A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120" y="914400"/>
            <a:ext cx="1600200" cy="6858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0" y="5410080"/>
            <a:ext cx="11430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7543800" y="1599840"/>
            <a:ext cx="0" cy="381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438280"/>
            <a:ext cx="1143000" cy="68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6629400" y="1600200"/>
            <a:ext cx="45720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3124080"/>
            <a:ext cx="685800" cy="21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295280"/>
            <a:ext cx="16002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743200" y="1066680"/>
            <a:ext cx="3809880" cy="46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052720" y="1976040"/>
            <a:ext cx="46656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429000" y="1371240"/>
            <a:ext cx="3048120" cy="152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3352680"/>
            <a:ext cx="3124080" cy="212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1430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981080"/>
            <a:ext cx="461880" cy="82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7524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4495680"/>
            <a:ext cx="16002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2560" y="3576240"/>
            <a:ext cx="69516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57800" y="3119040"/>
            <a:ext cx="685800" cy="138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9528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34960" y="4255920"/>
            <a:ext cx="1143000" cy="68580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595160" y="1976040"/>
            <a:ext cx="237960" cy="229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3576600"/>
            <a:ext cx="22860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724280"/>
            <a:ext cx="4343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14600" y="1519200"/>
            <a:ext cx="4114800" cy="298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5638680"/>
            <a:ext cx="2286000" cy="685800"/>
          </a:xfrm>
          <a:prstGeom prst="ellipse">
            <a:avLst/>
          </a:prstGeom>
          <a:solidFill>
            <a:srgbClr val="dc2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200400" y="3576600"/>
            <a:ext cx="1440" cy="206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58672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4952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806560"/>
            <a:ext cx="1600200" cy="685800"/>
          </a:xfrm>
          <a:prstGeom prst="ellipse">
            <a:avLst/>
          </a:prstGeom>
          <a:solidFill>
            <a:srgbClr val="2300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2805120"/>
            <a:ext cx="1828800" cy="231840"/>
          </a:xfrm>
          <a:prstGeom prst="line">
            <a:avLst/>
          </a:prstGeom>
          <a:ln w="9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1739880"/>
            <a:ext cx="434340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1968480"/>
            <a:ext cx="297180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00320" y="380880"/>
            <a:ext cx="65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hado Modules and Their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03:04:43Z</dcterms:created>
  <dc:creator>GMOD / NESCent</dc:creator>
  <dc:description/>
  <dc:language>en-US</dc:language>
  <cp:lastModifiedBy>GMOD / NESCent</cp:lastModifiedBy>
  <dcterms:modified xsi:type="dcterms:W3CDTF">2008-07-10T03:07:08Z</dcterms:modified>
  <cp:revision>1</cp:revision>
  <dc:subject/>
  <dc:title>PowerPoint Presentation</dc:title>
</cp:coreProperties>
</file>